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A57-2CB5-4B74-ABDD-4C79D0EB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D66-697C-44A5-B013-EF9977F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719-AED5-4E91-B5AE-67B046F8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B5C-6AFA-42D1-8C15-EA4E266C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E2E-C90C-4A20-A53B-3DCCDC2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557-F33C-4DC4-965F-D71C7382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27E-686F-4338-A8D3-53C81EE4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5B6-E213-4A0B-B66A-791C018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FFF-E692-4B83-80BD-3CF058C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A6C-8737-46E0-A8FE-921C34B5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50E-E45A-471B-948D-E65F79F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B4A-6B27-43D1-B082-12D1CF4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86B-D5B0-4309-A6CB-19AE6734D3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"/>
              </a:rPr>
              <a:t>2B Back-to-back stem plo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looked at stem plots in Exercise  1B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For bivariate data, we use back-to-back stem plo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71720" y="2286000"/>
          <a:ext cx="6095880" cy="2022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see shape/density of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good for small data 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identify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good for very large data 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find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Q. 1, 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2, 5, 6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you are asked to comment on the data, compare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dia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hape (symmetrical, skewed positively or negatively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pread (refer to standard deviation or IQR)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2:21:55Z</dcterms:created>
  <dc:creator>08843474</dc:creator>
  <dc:description/>
  <dc:language>en-US</dc:language>
  <cp:lastModifiedBy>08843474</cp:lastModifiedBy>
  <dcterms:modified xsi:type="dcterms:W3CDTF">2011-02-06T03:48:51Z</dcterms:modified>
  <cp:revision>10</cp:revision>
  <dc:subject/>
  <dc:title>Bivariate Data</dc:title>
</cp:coreProperties>
</file>